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61E-D61E-4F64-A8B5-E9AFD77E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2EF-EFFB-493E-B25C-544EC898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930-494B-4013-BC5D-C707F72B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333-B646-43DD-815F-C5EAB59E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063-B711-469F-A102-F6B47C5D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3AE1-75E7-488C-9ED1-666D812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9710-48C0-4696-8B13-1D5CF6F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5168-5DB7-40BA-9911-7921E94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1EFC-5CCA-40EE-856F-3392077E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DD1-5156-4D14-9426-ABDDA41D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72AA-FA89-454B-818E-CBB80C8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E23-8DC6-41D8-8E3D-A9708775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739-55E2-4B96-973A-F3E8B70C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B2CE-B44E-4086-B7F1-28BD228F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CC59-3346-47C5-8EDF-1FAD5A3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ED4-1C49-465B-8574-7B75B12C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A72-F4E4-481B-A976-AAAB9812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F188-4162-4A20-AB9D-96AA5B1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D838-22A7-4498-B5C7-A96180F0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BC08-CBA2-4FE3-B289-6E7F990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50B0-655D-432F-96EE-ED3BDDD4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1F7D-2E2A-4691-A0CF-61B6BFB4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8D3-EC24-4A5B-BD44-0E990383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D92A-1DC1-4DCA-B77C-17136C62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B1FA1-87A6-430D-8CE6-E9F4363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3DFE-5EF9-4D4F-8967-DD97675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3DCC-3896-416F-9B52-3663197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7F31-199E-4A58-8D9A-D9969C35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F356-6ED8-4AE6-9BF8-3F11B025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E991-CB1F-4F85-B53D-79D81DCF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A45-123E-4BFB-BD8C-F8AD2ADF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18A-3BCE-4F78-98BA-E7C72A6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17D-CB7A-4411-9973-1B7C0C8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691-C177-4486-A46D-51AA708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C3A-1F20-4A80-A4A0-03CA7B3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AD9-01E8-4875-9174-02BC944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EC2-B250-47B8-9F11-D760D0B0E52E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981-8267-4026-9537-26E20D559A3B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550-F85E-4773-A134-10284200A4EF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B9C8-863E-4DD1-A2E7-0C39E7E9194F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719-18A9-4244-880F-FE006EC17474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8245-8E55-4A5B-9450-9C7E663C590C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5129"/>
          <p:cNvSpPr/>
          <p:nvPr/>
        </p:nvSpPr>
        <p:spPr>
          <a:xfrm>
            <a:off x="1752480" y="1752480"/>
            <a:ext cx="59436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4  After-School Activitie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19 A Dinner Dat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4" name="图片 5132" descr="GFI264-Calendar"/>
          <p:cNvPicPr/>
          <p:nvPr/>
        </p:nvPicPr>
        <p:blipFill>
          <a:blip r:embed="rId1"/>
          <a:stretch/>
        </p:blipFill>
        <p:spPr>
          <a:xfrm>
            <a:off x="4343400" y="38862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6385"/>
          <p:cNvSpPr/>
          <p:nvPr/>
        </p:nvSpPr>
        <p:spPr>
          <a:xfrm>
            <a:off x="838080" y="6858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’m going to the countryside with my da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和我的爸爸去农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文本框 16386"/>
          <p:cNvSpPr/>
          <p:nvPr/>
        </p:nvSpPr>
        <p:spPr>
          <a:xfrm>
            <a:off x="1219320" y="1828800"/>
            <a:ext cx="746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打算做某事，强调按计划、安排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l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也用于将来时，常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going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互换，但不强调计划、安排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re going to play volleyball this afternoo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下午我们打算去打排球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n will he come back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什么时候回来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47105"/>
          <p:cNvSpPr/>
          <p:nvPr/>
        </p:nvSpPr>
        <p:spPr>
          <a:xfrm>
            <a:off x="762120" y="838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e’re both busy all week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两个一周都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文本框 47106"/>
          <p:cNvSpPr/>
          <p:nvPr/>
        </p:nvSpPr>
        <p:spPr>
          <a:xfrm>
            <a:off x="1066680" y="1905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两个都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三个及三个以上都，均用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词、情态动词后，实义动词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can both swim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两个都会游泳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 wee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一周。类似短语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l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整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ll morn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整个早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7893"/>
          <p:cNvSpPr/>
          <p:nvPr/>
        </p:nvSpPr>
        <p:spPr>
          <a:xfrm>
            <a:off x="1219320" y="1495440"/>
            <a:ext cx="70102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你想过来吃晚饭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you like ____ ______ ______ for dinner to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叔叔擅长下象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uncle is _____ _____ ______ ches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天去踢足球怎么样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_ _______ football tomorr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文本框 37894"/>
          <p:cNvSpPr/>
          <p:nvPr/>
        </p:nvSpPr>
        <p:spPr>
          <a:xfrm>
            <a:off x="1601640" y="2590920"/>
            <a:ext cx="16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文本框 37899"/>
          <p:cNvSpPr/>
          <p:nvPr/>
        </p:nvSpPr>
        <p:spPr>
          <a:xfrm>
            <a:off x="3124080" y="396252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文本框 37900"/>
          <p:cNvSpPr/>
          <p:nvPr/>
        </p:nvSpPr>
        <p:spPr>
          <a:xfrm>
            <a:off x="2438280" y="4952880"/>
            <a:ext cx="14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文本框 37901"/>
          <p:cNvSpPr/>
          <p:nvPr/>
        </p:nvSpPr>
        <p:spPr>
          <a:xfrm>
            <a:off x="3448080" y="49528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文本框 37907"/>
          <p:cNvSpPr/>
          <p:nvPr/>
        </p:nvSpPr>
        <p:spPr>
          <a:xfrm>
            <a:off x="4057560" y="25909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文本框 37908"/>
          <p:cNvSpPr/>
          <p:nvPr/>
        </p:nvSpPr>
        <p:spPr>
          <a:xfrm>
            <a:off x="4572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文本框 37909"/>
          <p:cNvSpPr/>
          <p:nvPr/>
        </p:nvSpPr>
        <p:spPr>
          <a:xfrm>
            <a:off x="56386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v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文本框 37910"/>
          <p:cNvSpPr/>
          <p:nvPr/>
        </p:nvSpPr>
        <p:spPr>
          <a:xfrm>
            <a:off x="4724280" y="396252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文本框 37911"/>
          <p:cNvSpPr/>
          <p:nvPr/>
        </p:nvSpPr>
        <p:spPr>
          <a:xfrm>
            <a:off x="4191120" y="396252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77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0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1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9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0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1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2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3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4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75" name="文本框 33897"/>
          <p:cNvSpPr/>
          <p:nvPr/>
        </p:nvSpPr>
        <p:spPr>
          <a:xfrm>
            <a:off x="914400" y="2851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星期放学后你打算做什么呢，请给自己列个计划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55303"/>
          <p:cNvSpPr/>
          <p:nvPr/>
        </p:nvSpPr>
        <p:spPr>
          <a:xfrm>
            <a:off x="685800" y="2362320"/>
            <a:ext cx="7924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Experience is the father of wisdom and memory the mother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经验是智慧之父，记忆是智慧之母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7" name="图片 5530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530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1447920" y="2930400"/>
            <a:ext cx="63212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like to do after schoo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ease tell something about i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200400" y="2057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8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6147"/>
          <p:cNvSpPr/>
          <p:nvPr/>
        </p:nvSpPr>
        <p:spPr>
          <a:xfrm>
            <a:off x="4191120" y="5486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lley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图片 6160" descr="u=1264609826,3141540236&amp;fm=23&amp;gp=0"/>
          <p:cNvPicPr/>
          <p:nvPr/>
        </p:nvPicPr>
        <p:blipFill>
          <a:blip r:embed="rId1"/>
          <a:srcRect l="0" t="0" r="0" b="1998"/>
          <a:stretch/>
        </p:blipFill>
        <p:spPr>
          <a:xfrm>
            <a:off x="2514600" y="182880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61"/>
          <p:cNvSpPr/>
          <p:nvPr/>
        </p:nvSpPr>
        <p:spPr>
          <a:xfrm>
            <a:off x="3429000" y="5456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45057"/>
          <p:cNvSpPr/>
          <p:nvPr/>
        </p:nvSpPr>
        <p:spPr>
          <a:xfrm>
            <a:off x="40384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文本框 45060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图片 45061" descr="play chess"/>
          <p:cNvPicPr/>
          <p:nvPr/>
        </p:nvPicPr>
        <p:blipFill>
          <a:blip r:embed="rId1"/>
          <a:stretch/>
        </p:blipFill>
        <p:spPr>
          <a:xfrm>
            <a:off x="2209680" y="1303200"/>
            <a:ext cx="394992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6325" descr="Volunteer01"/>
          <p:cNvPicPr/>
          <p:nvPr/>
        </p:nvPicPr>
        <p:blipFill>
          <a:blip r:embed="rId1"/>
          <a:stretch/>
        </p:blipFill>
        <p:spPr>
          <a:xfrm>
            <a:off x="1600200" y="990720"/>
            <a:ext cx="6105600" cy="42307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6323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lunte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7348" descr="bingo-card"/>
          <p:cNvPicPr/>
          <p:nvPr/>
        </p:nvPicPr>
        <p:blipFill>
          <a:blip r:embed="rId1"/>
          <a:stretch/>
        </p:blipFill>
        <p:spPr>
          <a:xfrm>
            <a:off x="2438280" y="838080"/>
            <a:ext cx="375156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7346"/>
          <p:cNvSpPr/>
          <p:nvPr/>
        </p:nvSpPr>
        <p:spPr>
          <a:xfrm>
            <a:off x="335268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ing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8920"/>
          <p:cNvSpPr/>
          <p:nvPr/>
        </p:nvSpPr>
        <p:spPr>
          <a:xfrm>
            <a:off x="1066680" y="2136600"/>
            <a:ext cx="7239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 Today is ________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 Jim is going to the ______ club on Wednesday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) Jim is going to the ___________ with his dad this weekend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矩形 38917"/>
          <p:cNvSpPr/>
          <p:nvPr/>
        </p:nvSpPr>
        <p:spPr>
          <a:xfrm>
            <a:off x="2693880" y="213372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nd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矩形 38921"/>
          <p:cNvSpPr/>
          <p:nvPr/>
        </p:nvSpPr>
        <p:spPr>
          <a:xfrm>
            <a:off x="1066680" y="1066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.Listen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矩形 38922"/>
          <p:cNvSpPr/>
          <p:nvPr/>
        </p:nvSpPr>
        <p:spPr>
          <a:xfrm>
            <a:off x="4038480" y="312408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矩形 38923"/>
          <p:cNvSpPr/>
          <p:nvPr/>
        </p:nvSpPr>
        <p:spPr>
          <a:xfrm>
            <a:off x="3997440" y="4038480"/>
            <a:ext cx="26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untrys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4337"/>
          <p:cNvSpPr/>
          <p:nvPr/>
        </p:nvSpPr>
        <p:spPr>
          <a:xfrm>
            <a:off x="685800" y="457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2. What is Steven going to do? Read the lesson and write down his schedule for the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55" descr="04"/>
          <p:cNvPicPr/>
          <p:nvPr/>
        </p:nvPicPr>
        <p:blipFill>
          <a:blip r:embed="rId1"/>
          <a:stretch/>
        </p:blipFill>
        <p:spPr>
          <a:xfrm>
            <a:off x="1066680" y="5638680"/>
            <a:ext cx="721836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143000" y="1752480"/>
          <a:ext cx="7010280" cy="3505320"/>
        </p:xfrm>
        <a:graphic>
          <a:graphicData uri="http://schemas.openxmlformats.org/drawingml/2006/table">
            <a:tbl>
              <a:tblPr/>
              <a:tblGrid>
                <a:gridCol w="1828800"/>
                <a:gridCol w="5181480"/>
              </a:tblGrid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on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1368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1368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ue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edne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urs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5760">
                      <a:solidFill>
                        <a:srgbClr val="9933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riday</a:t>
                      </a:r>
                      <a:endParaRPr b="1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33ff"/>
                      </a:solidFill>
                    </a:lnL>
                    <a:lnR w="576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13680">
                      <a:solidFill>
                        <a:srgbClr val="9933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ff"/>
                      </a:solidFill>
                    </a:lnL>
                    <a:lnR w="13680">
                      <a:solidFill>
                        <a:srgbClr val="9933ff"/>
                      </a:solidFill>
                    </a:lnR>
                    <a:lnT w="5760">
                      <a:solidFill>
                        <a:srgbClr val="9933ff"/>
                      </a:solidFill>
                    </a:lnT>
                    <a:lnB w="13680">
                      <a:solidFill>
                        <a:srgbClr val="99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矩形 14423"/>
          <p:cNvSpPr/>
          <p:nvPr/>
        </p:nvSpPr>
        <p:spPr>
          <a:xfrm>
            <a:off x="327672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dinner with Ji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矩形 14424"/>
          <p:cNvSpPr/>
          <p:nvPr/>
        </p:nvSpPr>
        <p:spPr>
          <a:xfrm>
            <a:off x="3276720" y="259092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volleyball practic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矩形 14425"/>
          <p:cNvSpPr/>
          <p:nvPr/>
        </p:nvSpPr>
        <p:spPr>
          <a:xfrm>
            <a:off x="3306600" y="327672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is fre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矩形 14426"/>
          <p:cNvSpPr/>
          <p:nvPr/>
        </p:nvSpPr>
        <p:spPr>
          <a:xfrm>
            <a:off x="3276720" y="3962520"/>
            <a:ext cx="56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volunteers at the Old Age Ho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矩形 14427"/>
          <p:cNvSpPr/>
          <p:nvPr/>
        </p:nvSpPr>
        <p:spPr>
          <a:xfrm>
            <a:off x="3276720" y="4724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has math class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5361"/>
          <p:cNvSpPr/>
          <p:nvPr/>
        </p:nvSpPr>
        <p:spPr>
          <a:xfrm>
            <a:off x="838080" y="2023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ay is it today?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星期几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文本框 15362"/>
          <p:cNvSpPr/>
          <p:nvPr/>
        </p:nvSpPr>
        <p:spPr>
          <a:xfrm>
            <a:off x="1066680" y="267012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星期几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a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来提问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日期要说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dat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询问几点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time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time is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6" name="图片 15370" descr="3"/>
          <p:cNvPicPr/>
          <p:nvPr/>
        </p:nvPicPr>
        <p:blipFill>
          <a:blip r:embed="rId1"/>
          <a:stretch/>
        </p:blipFill>
        <p:spPr>
          <a:xfrm>
            <a:off x="6705720" y="149076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5" descr="04"/>
          <p:cNvPicPr/>
          <p:nvPr/>
        </p:nvPicPr>
        <p:blipFill>
          <a:blip r:embed="rId2"/>
          <a:stretch/>
        </p:blipFill>
        <p:spPr>
          <a:xfrm>
            <a:off x="1087560" y="5486400"/>
            <a:ext cx="721836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47:00Z</dcterms:created>
  <dc:creator/>
  <dc:description/>
  <dc:language>en-US</dc:language>
  <cp:lastModifiedBy>Administrator</cp:lastModifiedBy>
  <dcterms:modified xsi:type="dcterms:W3CDTF">2019-01-02T00:49:13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